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A24-B9A7-4424-AC7F-8E0AE11D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656-58EC-4A39-A4CC-5E8D29A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216-1150-49AA-94F8-368D5DBA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01E-CB4D-4AFB-92F8-CDDECBE8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9D3F-96DB-467A-A847-FC508EFD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49D8-F8BB-42FC-947C-6484ABB3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589E-4B3F-482B-9046-B391639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115-4D9E-44D0-BB1F-289C404B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C51-53B0-4586-A454-5955ABD9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30B-E2AD-4252-96DF-929D565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CA9B-76E5-457C-8B3B-A580DE9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59F-8EF5-4B68-8A83-160E524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6FC-3EBD-4CBA-9B38-9715BB7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0EB-C8F6-418E-A172-FCA957A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1CAB-0460-4A6A-9EE7-E5D836A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22C-425A-44F6-AC83-7C0EAAE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A23-5C06-4CF9-889E-F2CFD837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8D-873D-45DA-AB54-8C5EDD4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F7D-0D98-4965-94AC-D37C81E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BDA-33DF-49DE-B12E-B045DC5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A7C-F594-43D9-90FF-CBDC3A7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04D-961B-4212-A8E4-29C82D1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A67-F698-4A34-A107-E8A4417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F20-B1B0-4F88-A066-552939C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FAC-82D3-470F-A477-AFF918D6E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9C56-1B94-4F3D-959A-7788B2A6C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дагогические подходы к компьютерным играм для дет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4000" y="5013360"/>
            <a:ext cx="345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ровских Розалия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1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блемные  вопрос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ие существуют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 можно организовать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Является ли компьютер средством воспитания, развития, обучения де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547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Участники проект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дагоги ДОУ</a:t>
            </a:r>
            <a:br>
              <a:rPr sz="5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тературные 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3036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Цель-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дать педагогам представления по               использованию педагогических подходов к компьютерным играм для детей в практике работы</a:t>
            </a:r>
            <a:br>
              <a:rPr sz="32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адачи: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обрать источники информации по данн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значение компьютерных игр для детей в сфере их развития, обучения и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Темы исследовани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образие компьютерных игр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ведение в мир компьютерных игр или как развивать, обучать и воспитывать детей с помощью компьютерны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терство педагога в использовании педагогических подходов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73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едставление результатов исследован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бликации и презентации педагог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идактические и информационные материалы педагог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494172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лан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нятие компьютерных игр для детей. Жан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руктура компьютерных иг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ипы компьютерных иг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дагогические подходы к игра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08360" y="5445000"/>
            <a:ext cx="2087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>
            <a:biLevel thresh="50000"/>
            <a:lum bright="24000"/>
          </a:blip>
          <a:stretch/>
        </p:blipFill>
        <p:spPr>
          <a:xfrm>
            <a:off x="32400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7:19:26Z</dcterms:created>
  <dc:creator>Customer</dc:creator>
  <dc:description/>
  <dc:language>en-US</dc:language>
  <cp:lastModifiedBy>Customer</cp:lastModifiedBy>
  <dcterms:modified xsi:type="dcterms:W3CDTF">2009-05-29T11:46:37Z</dcterms:modified>
  <cp:revision>7</cp:revision>
  <dc:subject/>
  <dc:title>Слайд 1</dc:title>
</cp:coreProperties>
</file>